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954B3-2ADD-4F34-A71D-1C3D9FFD867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9666e"/>
                </a:solidFill>
                <a:latin typeface="Gill Sans MT"/>
              </a:rPr>
              <a:t>Click to move the slide</a:t>
            </a:r>
            <a:endParaRPr b="0" lang="en-US" sz="4300" spc="-1" strike="noStrike">
              <a:solidFill>
                <a:srgbClr val="69666e"/>
              </a:solidFill>
              <a:latin typeface="Gill Sans MT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E5103-73D9-49E6-B0BF-E2AE4EFBB0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F5AF9-0061-4B9A-806E-7F7025790C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many are scientists?  Use same rigour in teaching as in scientific endeavou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blished in science because scientists don’t usually read pedagological journ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D83A2-916E-4FB2-968C-E9E1943BEA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41293-47AB-462F-9122-80CB6F06B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4B5F2-9323-480C-B7F9-563A9EF78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B172F-5949-4594-9E10-A292C0032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20C85-230F-4395-AABB-F054973FC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82B84-2447-41D8-9AAA-8CAC8AFB3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07403-E44C-44B8-8DFE-DBC189CE5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C3062-1571-455D-8F9E-E7D568EE3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FFE34-3D02-4200-BBEA-8CF544008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A6609-006E-4B48-A17F-12E3FA93E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4B9F9-E879-423E-8DEC-503B5E860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D5216-40F3-40E3-9F24-86963EB1B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96DA1-5EF0-47BE-8482-57E1CA8C4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AEB8F-F61D-475E-B834-AFC3132FA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928E2-410A-46C1-B3EF-D12351D93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7705A-8800-465D-AD75-F03130943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E7FD7-969C-44B2-88C0-DFD1BD0DB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854D9-47B1-47AD-B6E2-7AB755D9D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C52543-4E4B-4237-92E9-BAA160995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C36323-DC18-443A-A248-A26536ABF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E2213E-D00C-449C-85A6-0512D8B80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E5BC9A-AF0E-4B0E-AF4D-FEC3570DE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0EDD0A-90F3-47A5-B6FC-F007EA6B6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A112F-D465-4412-938C-BEF4DAB31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73A93B-59E3-4859-A876-884A7F4D9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018684-71C7-4AC4-9B07-BF2A37E1E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95AD89-9543-4D94-8CB8-F4BCC0096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EC00C6-7E6E-46BF-A839-41B7A3E11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263972-C82C-4E2B-B4FF-C6EE0F761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D92B7C-CDAE-4342-8A5A-22E90F7BE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BD4E26-86EA-48B8-AB88-265D6C784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E8D7FE-FCBE-4CA8-9284-7C8C4E114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D1C198-497E-4DF8-BE8E-1EE031717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11A04F-9F05-4E8C-92CD-6CE7A86C1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F1F84-BC37-4DD4-B464-FA0F8B6E2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6B96FE-2C74-412C-8E47-3FDD25DF7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9BA610-ADA0-4E02-98ED-9FD2E79C3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B075C3-4047-4BD6-B8EC-5383914E1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EB25DB-70E3-473B-A085-0546CC557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5E7657-B3CC-42BC-8309-49D9E5D62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71D8A5-B6C4-4E78-A7C0-60CE1C661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F9ADA3-4C8C-4BE8-B6B3-4DD4936AF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A89356-F7CF-4A3D-936E-B07B5C632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AA9A93-84D8-498F-B746-D97A51C42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668F12-4606-470E-BB63-C868D0ADA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2022A-86B3-4D18-96A8-65C17F64C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B30B07-C54D-463D-AF72-1CD943AC7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FF3E5E-C8D6-47E1-B314-6303F76A7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A81559-E141-42A1-BC83-AEA0E417A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C76B95-D0D6-4507-8339-C3B1A0C3B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67012E-E325-489D-91D7-640FE7A8D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0F39BB-B89F-47A6-A750-4B1ED4FB2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01D5AF-2157-4606-A132-AAAA1395F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5C2B6C-EEE1-47E9-AD27-D2099C32F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0AC40B-31C3-4DA0-89DD-872130554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E0303F-23D5-440B-BA47-2A136F3C6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9C973-CE30-4FB3-80D8-F3C72FB88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29B1A3-2F23-42CB-BB13-D9C5EAAD3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A4045D-DC10-453C-AED9-108E13D36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8DA58E-07EF-4A98-91EB-E92E26DE3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6D33F0-9399-4E60-ACB4-D6F3A74EE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510C7F-8ECC-4716-8972-966BB94D9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3B52A2-7CBF-42FE-BF11-024C44421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F7BB18-E461-423B-BABD-D2973D6A8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94E00B-D14A-485D-A3E8-4064313C0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8C2C3D-58F1-4F9F-9E0E-67FF0D531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BDA779-DEB6-4951-B645-DCDBD4427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9796A-10F2-4B86-9683-573DE0168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4161DD-0192-40C0-AE0B-D7AEF7676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DE358E-4BD3-4ED7-82AA-ABC3D1852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1A6930-8EE2-464C-8980-5F9BBD3F1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D7C87C-097B-4D16-8450-5C7CF2261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238A2A-0FC1-4183-9AB6-71A96288A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0FDD3C-2791-47CE-8243-2E1B1E186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285E95-70C1-4B94-936E-02DFBFDD2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80179E-B4E9-4CBB-B5ED-BD33F9D0F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8FE427-3806-4522-890E-8965F78AE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6C8701-4860-4E22-AC29-3AD33BDE2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CB56E-7301-4FC1-8B73-B9BDB7411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C4EDA7-D638-4EC6-998C-F56875A22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9B4C9F-28AE-4C60-842D-483DC8DD3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94AA1E-2116-4FBB-A0B4-E59DB2759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B7C03D-8344-4AC1-8898-58EBA882D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58A264-AE46-41C5-903C-183C82425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8DA19-5CAC-4255-82D4-74DE8A80C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6f4f9">
              <a:alpha val="33000"/>
            </a:srgbClr>
          </a:solidFill>
          <a:ln cap="rnd" w="3240">
            <a:solidFill>
              <a:srgbClr val="ab9f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e8e0f2"/>
            </a:solidFill>
            <a:miter/>
          </a:ln>
          <a:effectLst>
            <a:outerShdw dist="25560" dir="5400000" blurRad="0" rotWithShape="0">
              <a:srgbClr val="938b9c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9666e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69666e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ffc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ffc0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9cb08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6bb1c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6585c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3889f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FF237-9651-41A0-86F4-0750B9C05CAA}" type="datetime">
              <a:rPr b="0" lang="en-US" sz="1200" spc="-1" strike="noStrike">
                <a:solidFill>
                  <a:srgbClr val="93889f"/>
                </a:solidFill>
                <a:latin typeface="Gill Sans M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3889f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DC9AA-7291-459B-949C-6BEB57A69039}" type="slidenum">
              <a:rPr b="0" lang="en-US" sz="1200" spc="-1" strike="noStrike">
                <a:solidFill>
                  <a:srgbClr val="93889f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05c64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6f4f9">
              <a:alpha val="33000"/>
            </a:srgbClr>
          </a:solidFill>
          <a:ln cap="rnd" w="3240">
            <a:solidFill>
              <a:srgbClr val="ab9f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e8e0f2"/>
            </a:solidFill>
            <a:miter/>
          </a:ln>
          <a:effectLst>
            <a:outerShdw dist="25560" dir="5400000" blurRad="0" rotWithShape="0">
              <a:srgbClr val="938b9c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05c64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Oval 12"/>
          <p:cNvGrpSpPr/>
          <p:nvPr/>
        </p:nvGrpSpPr>
        <p:grpSpPr>
          <a:xfrm>
            <a:off x="914400" y="1401840"/>
            <a:ext cx="225360" cy="231840"/>
            <a:chOff x="914400" y="1401840"/>
            <a:chExt cx="225360" cy="231840"/>
          </a:xfrm>
        </p:grpSpPr>
        <p:pic>
          <p:nvPicPr>
            <p:cNvPr id="56" name="Oval 12" descr=""/>
            <p:cNvPicPr/>
            <p:nvPr/>
          </p:nvPicPr>
          <p:blipFill>
            <a:blip r:embed="rId4"/>
            <a:stretch/>
          </p:blipFill>
          <p:spPr>
            <a:xfrm>
              <a:off x="914400" y="140184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Ov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e1a900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9666e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69666e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ffc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ffc0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9cb08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6bb1c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6585c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3889f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86774-41C3-4A8C-97AE-BC0DDB1432E0}" type="datetime">
              <a:rPr b="0" lang="en-US" sz="1200" spc="-1" strike="noStrike">
                <a:solidFill>
                  <a:srgbClr val="93889f"/>
                </a:solidFill>
                <a:latin typeface="Gill Sans M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3889f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89FC3-360A-4617-84A1-0A86CCD2827B}" type="slidenum">
              <a:rPr b="0" lang="en-US" sz="1200" spc="-1" strike="noStrike">
                <a:solidFill>
                  <a:srgbClr val="93889f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05c64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Oval 15"/>
          <p:cNvGrpSpPr/>
          <p:nvPr/>
        </p:nvGrpSpPr>
        <p:grpSpPr>
          <a:xfrm>
            <a:off x="2163600" y="2803680"/>
            <a:ext cx="225720" cy="231480"/>
            <a:chOff x="2163600" y="2803680"/>
            <a:chExt cx="225720" cy="231480"/>
          </a:xfrm>
        </p:grpSpPr>
        <p:pic>
          <p:nvPicPr>
            <p:cNvPr id="103" name="Oval 15" descr=""/>
            <p:cNvPicPr/>
            <p:nvPr/>
          </p:nvPicPr>
          <p:blipFill>
            <a:blip r:embed="rId3"/>
            <a:stretch/>
          </p:blipFill>
          <p:spPr>
            <a:xfrm>
              <a:off x="2163600" y="2803680"/>
              <a:ext cx="225720" cy="23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Oval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e1a900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9666e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69666e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ffc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ffc0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9cb08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6bb1c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6585c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3889f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D7E35-9A5D-4397-ADC3-BC2490AE378E}" type="datetime">
              <a:rPr b="0" lang="en-US" sz="1200" spc="-1" strike="noStrike">
                <a:solidFill>
                  <a:srgbClr val="93889f"/>
                </a:solidFill>
                <a:latin typeface="Gill Sans M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3889f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79F38-6944-4CA9-A7FF-308E9140BFAC}" type="slidenum">
              <a:rPr b="0" lang="en-US" sz="1200" spc="-1" strike="noStrike">
                <a:solidFill>
                  <a:srgbClr val="93889f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9666e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69666e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ffc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ffc0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9cb08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6bb1c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6585c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3889f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C19FE-B6C6-460B-96EC-F90472199FD0}" type="datetime">
              <a:rPr b="0" lang="en-US" sz="1200" spc="-1" strike="noStrike">
                <a:solidFill>
                  <a:srgbClr val="93889f"/>
                </a:solidFill>
                <a:latin typeface="Gill Sans M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3889f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D2412-755B-4E9D-89FA-307FE4F1F473}" type="slidenum">
              <a:rPr b="0" lang="en-US" sz="1200" spc="-1" strike="noStrike">
                <a:solidFill>
                  <a:srgbClr val="93889f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05c64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9666e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69666e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ffc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ffc0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9cb08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6bb1c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6585c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3889f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780E2-1176-450B-A2BC-29D919410D1C}" type="datetime">
              <a:rPr b="0" lang="en-US" sz="1200" spc="-1" strike="noStrike">
                <a:solidFill>
                  <a:srgbClr val="93889f"/>
                </a:solidFill>
                <a:latin typeface="Gill Sans M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3889f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35C66-636C-484E-985A-BB7C4366BA2B}" type="slidenum">
              <a:rPr b="0" lang="en-US" sz="1200" spc="-1" strike="noStrike">
                <a:solidFill>
                  <a:srgbClr val="93889f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9666e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69666e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ffc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ffc0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9cb08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6bb1c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6585c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3889f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80EA7-C04B-4869-B14A-09708257B940}" type="datetime">
              <a:rPr b="0" lang="en-US" sz="1200" spc="-1" strike="noStrike">
                <a:solidFill>
                  <a:srgbClr val="93889f"/>
                </a:solidFill>
                <a:latin typeface="Gill Sans M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3889f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584E1-593C-4F26-B8BC-5170D6EB9CCA}" type="slidenum">
              <a:rPr b="0" lang="en-US" sz="1200" spc="-1" strike="noStrike">
                <a:solidFill>
                  <a:srgbClr val="93889f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Rectangle 12"/>
          <p:cNvGrpSpPr/>
          <p:nvPr/>
        </p:nvGrpSpPr>
        <p:grpSpPr>
          <a:xfrm>
            <a:off x="646200" y="969840"/>
            <a:ext cx="4797360" cy="4797720"/>
            <a:chOff x="646200" y="969840"/>
            <a:chExt cx="4797360" cy="4797720"/>
          </a:xfrm>
        </p:grpSpPr>
        <p:pic>
          <p:nvPicPr>
            <p:cNvPr id="273" name="Rectangle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797360" cy="479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Flowchart: Process 8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bfb2cf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Flowchart: Process 9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c9c2d1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9666e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69666e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ffc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ffc0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9cb08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6bb1c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6585c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3889f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E321D-AB61-4D2E-A910-58FF9E32C006}" type="datetime">
              <a:rPr b="0" lang="en-US" sz="1200" spc="-1" strike="noStrike">
                <a:solidFill>
                  <a:srgbClr val="93889f"/>
                </a:solidFill>
                <a:latin typeface="Gill Sans M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3889f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821D1-A18D-4C72-9C0E-64942233A745}" type="slidenum">
              <a:rPr b="0" lang="en-US" sz="1200" spc="-1" strike="noStrike">
                <a:solidFill>
                  <a:srgbClr val="93889f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371240" y="1828800"/>
            <a:ext cx="75438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660066"/>
                </a:solidFill>
                <a:latin typeface="Gill Sans MT"/>
              </a:rPr>
              <a:t>BIOLOGY CONCEPT INVENTORIES: </a:t>
            </a:r>
            <a:br>
              <a:rPr sz="4300"/>
            </a:br>
            <a:r>
              <a:rPr b="1" lang="en-US" sz="4300" spc="-1" strike="noStrike">
                <a:solidFill>
                  <a:srgbClr val="660066"/>
                </a:solidFill>
                <a:latin typeface="Gill Sans MT"/>
              </a:rPr>
              <a:t>Development and Use</a:t>
            </a:r>
            <a:endParaRPr b="0" lang="en-US" sz="4300" spc="-1" strike="noStrike">
              <a:solidFill>
                <a:srgbClr val="69666e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66e"/>
                </a:solidFill>
                <a:latin typeface="Gill Sans MT"/>
              </a:rPr>
              <a:t>BIOLOGY CONCEPT INVENTORIES &amp; DIAGNOSTIC QUESTION CLUSTERS</a:t>
            </a:r>
            <a:endParaRPr b="0" lang="en-US" sz="3200" spc="-1" strike="noStrike">
              <a:solidFill>
                <a:srgbClr val="69666e"/>
              </a:solidFill>
              <a:latin typeface="Gill Sans MT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ffc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Published inventories: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ffc0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Osmosis and diffusion *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ffc0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Respiratory and cardiovascular physiology *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ffc0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Natural selectio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ffc0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DQC: Tracing matter in dynamic system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ffc0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Genetics and regulation of gene expressio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ffc0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Molecular and cell biology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ffc0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Host-pathogen interaction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ffc0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DCQs on </a:t>
            </a:r>
            <a:r>
              <a:rPr b="0" i="1" lang="en-US" sz="2000" spc="-1" strike="noStrike">
                <a:solidFill>
                  <a:srgbClr val="000000"/>
                </a:solidFill>
                <a:latin typeface="Gill Sans MT"/>
              </a:rPr>
              <a:t>Thinking like a biologist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ebsit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ffc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Inventories under development: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ffc0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Meiosi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ffc0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Prokaryotic cell structure &amp; gene regulatio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ffc0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Population, community, ecosystem ecology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ffc0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peciation, phylogenetic tree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Adams W,  Wieman C.  2010.  </a:t>
            </a:r>
            <a:r>
              <a:rPr b="0" i="1" lang="en-US" sz="3200" spc="-1" strike="noStrike">
                <a:solidFill>
                  <a:srgbClr val="000000"/>
                </a:solidFill>
                <a:latin typeface="Gill Sans MT"/>
              </a:rPr>
              <a:t>Development and validation of instruments to measure learning of expert-like thinking.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nternational Journal of Science Education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9666e"/>
                </a:solidFill>
                <a:latin typeface="Gill Sans MT"/>
              </a:rPr>
              <a:t>HOW TO DEVELOP A CONCEPT INVENTORY</a:t>
            </a:r>
            <a:endParaRPr b="0" lang="en-US" sz="3600" spc="-1" strike="noStrike">
              <a:solidFill>
                <a:srgbClr val="69666e"/>
              </a:solidFill>
              <a:latin typeface="Gill Sans MT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1. Identification of key concepts by instructor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2. Qualitative research into student misconception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3. Development of a MC test in which student misconceptions are used as distracter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4.  Validation interviews on test question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ffc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9666e"/>
                </a:solidFill>
                <a:latin typeface="Gill Sans MT"/>
              </a:rPr>
              <a:t>HOW TO DEVELOP A CONCEPT INVENTORY</a:t>
            </a:r>
            <a:endParaRPr b="0" lang="en-US" sz="3600" spc="-1" strike="noStrike">
              <a:solidFill>
                <a:srgbClr val="69666e"/>
              </a:solidFill>
              <a:latin typeface="Gill Sans MT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65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5.  Administer pre-tests (before instruction) and post-tests (after instruction) to a large class, typically several hundred, and determine learning gain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6. Statistical analyse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01200" indent="-2221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eliability of the test as a whole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01200" indent="-2221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Item analysis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01200" indent="-2221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P –  Item difficulty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01200" indent="-2221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D – Item discrimination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01200" indent="-222120">
              <a:spcBef>
                <a:spcPts val="55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01200" indent="-222120">
              <a:spcBef>
                <a:spcPts val="55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66e"/>
                </a:solidFill>
                <a:latin typeface="Gill Sans MT"/>
              </a:rPr>
              <a:t>USING CONCEPT INVENTORIES</a:t>
            </a:r>
            <a:endParaRPr b="0" lang="en-US" sz="4000" spc="-1" strike="noStrike">
              <a:solidFill>
                <a:srgbClr val="69666e"/>
              </a:solidFill>
              <a:latin typeface="Gill Sans MT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ffc000"/>
              </a:buClr>
              <a:buSzPct val="80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Assess student learning gains in conceptual understanding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ffc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ompare the effectiveness of different teaching techniques in promoting conceptual understanding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371240" y="1828800"/>
            <a:ext cx="75438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660066"/>
                </a:solidFill>
                <a:latin typeface="Gill Sans MT"/>
              </a:rPr>
              <a:t>How else can concept inventories be used?</a:t>
            </a:r>
            <a:endParaRPr b="0" lang="en-US" sz="4300" spc="-1" strike="noStrike">
              <a:solidFill>
                <a:srgbClr val="69666e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Explosion 1 5" descr=""/>
          <p:cNvPicPr/>
          <p:nvPr/>
        </p:nvPicPr>
        <p:blipFill>
          <a:blip r:embed="rId2"/>
          <a:stretch/>
        </p:blipFill>
        <p:spPr>
          <a:xfrm>
            <a:off x="1859040" y="1579680"/>
            <a:ext cx="6284880" cy="4741920"/>
          </a:xfrm>
          <a:prstGeom prst="rect">
            <a:avLst/>
          </a:prstGeom>
          <a:ln w="0">
            <a:noFill/>
          </a:ln>
        </p:spPr>
      </p:pic>
      <p:sp>
        <p:nvSpPr>
          <p:cNvPr id="347" name="TextBox 6"/>
          <p:cNvSpPr/>
          <p:nvPr/>
        </p:nvSpPr>
        <p:spPr>
          <a:xfrm>
            <a:off x="990720" y="609480"/>
            <a:ext cx="7391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Site for Conceptual Assessments in Biology: posting, use, and re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Box 7"/>
          <p:cNvSpPr/>
          <p:nvPr/>
        </p:nvSpPr>
        <p:spPr>
          <a:xfrm>
            <a:off x="544680" y="4952880"/>
            <a:ext cx="2047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Calibri"/>
              </a:rPr>
              <a:t>CAB III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ff"/>
                </a:solidFill>
                <a:latin typeface="Gill Sans MT"/>
              </a:rPr>
              <a:t>ciHUB. org</a:t>
            </a:r>
            <a:endParaRPr b="0" lang="en-US" sz="5400" spc="-1" strike="noStrike">
              <a:solidFill>
                <a:srgbClr val="69666e"/>
              </a:solidFill>
              <a:latin typeface="Gill Sans MT"/>
            </a:endParaRPr>
          </a:p>
        </p:txBody>
      </p:sp>
      <p:pic>
        <p:nvPicPr>
          <p:cNvPr id="350" name="Content Placeholder 3" descr="cihub - Home.jpg"/>
          <p:cNvPicPr/>
          <p:nvPr/>
        </p:nvPicPr>
        <p:blipFill>
          <a:blip r:embed="rId2"/>
          <a:srcRect l="3694" t="0" r="6890" b="21680"/>
          <a:stretch/>
        </p:blipFill>
        <p:spPr>
          <a:xfrm>
            <a:off x="1371600" y="1295280"/>
            <a:ext cx="6400800" cy="3840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51" name="TextBox 5"/>
          <p:cNvSpPr/>
          <p:nvPr/>
        </p:nvSpPr>
        <p:spPr>
          <a:xfrm>
            <a:off x="926280" y="5211720"/>
            <a:ext cx="703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Engineering, Physics, Chemistry, Statis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Box 6"/>
          <p:cNvSpPr/>
          <p:nvPr/>
        </p:nvSpPr>
        <p:spPr>
          <a:xfrm>
            <a:off x="1137240" y="6064200"/>
            <a:ext cx="658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urdue Engineering: Teri Reed-Rhoads, P.K. Imbrie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ff"/>
                </a:solidFill>
                <a:latin typeface="Gill Sans MT"/>
              </a:rPr>
              <a:t>HUBzero.org</a:t>
            </a:r>
            <a:endParaRPr b="0" lang="en-US" sz="5400" spc="-1" strike="noStrike">
              <a:solidFill>
                <a:srgbClr val="69666e"/>
              </a:solidFill>
              <a:latin typeface="Gill Sans MT"/>
            </a:endParaRPr>
          </a:p>
        </p:txBody>
      </p:sp>
      <p:pic>
        <p:nvPicPr>
          <p:cNvPr id="354" name="Content Placeholder 3" descr="HUBzero - Platform for Scientific Collaboration2.jpg"/>
          <p:cNvPicPr/>
          <p:nvPr/>
        </p:nvPicPr>
        <p:blipFill>
          <a:blip r:embed="rId2"/>
          <a:srcRect l="-5794" t="0" r="-5794" b="0"/>
          <a:stretch/>
        </p:blipFill>
        <p:spPr>
          <a:xfrm>
            <a:off x="1425600" y="1371600"/>
            <a:ext cx="6140520" cy="3962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55" name="TextBox 4"/>
          <p:cNvSpPr/>
          <p:nvPr/>
        </p:nvSpPr>
        <p:spPr>
          <a:xfrm>
            <a:off x="858960" y="5450040"/>
            <a:ext cx="681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Platform for Scientific Collabor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ff"/>
                </a:solidFill>
                <a:latin typeface="Gill Sans MT"/>
              </a:rPr>
              <a:t>nanoHUB.org</a:t>
            </a:r>
            <a:endParaRPr b="0" lang="en-US" sz="5400" spc="-1" strike="noStrike">
              <a:solidFill>
                <a:srgbClr val="69666e"/>
              </a:solidFill>
              <a:latin typeface="Gill Sans MT"/>
            </a:endParaRPr>
          </a:p>
        </p:txBody>
      </p:sp>
      <p:pic>
        <p:nvPicPr>
          <p:cNvPr id="357" name="Content Placeholder 9" descr="nanoHUB.org - Simulation, Education, and Community for Nanotechnology2.jpg"/>
          <p:cNvPicPr/>
          <p:nvPr/>
        </p:nvPicPr>
        <p:blipFill>
          <a:blip r:embed="rId2"/>
          <a:srcRect l="-9318" t="0" r="-9318" b="0"/>
          <a:stretch/>
        </p:blipFill>
        <p:spPr>
          <a:xfrm>
            <a:off x="1371600" y="1219320"/>
            <a:ext cx="5864400" cy="4343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58" name="TextBox 10"/>
          <p:cNvSpPr/>
          <p:nvPr/>
        </p:nvSpPr>
        <p:spPr>
          <a:xfrm>
            <a:off x="1447920" y="5450040"/>
            <a:ext cx="5790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nline Simulation and More for Nanotechn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69666e"/>
                </a:solidFill>
                <a:latin typeface="Gill Sans MT"/>
              </a:rPr>
              <a:t>SCIENTIFIC TEACHING</a:t>
            </a:r>
            <a:endParaRPr b="0" lang="en-US" sz="4300" spc="-1" strike="noStrike">
              <a:solidFill>
                <a:srgbClr val="69666e"/>
              </a:solidFill>
              <a:latin typeface="Gill Sans MT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ffc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AAAS report “Science for all Americans”: Reform in science education should be founded on scientific teaching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ffc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Explosion 1 5" descr=""/>
          <p:cNvPicPr/>
          <p:nvPr/>
        </p:nvPicPr>
        <p:blipFill>
          <a:blip r:embed="rId2"/>
          <a:stretch/>
        </p:blipFill>
        <p:spPr>
          <a:xfrm>
            <a:off x="1633680" y="1347840"/>
            <a:ext cx="6278400" cy="4748040"/>
          </a:xfrm>
          <a:prstGeom prst="rect">
            <a:avLst/>
          </a:prstGeom>
          <a:ln w="0">
            <a:noFill/>
          </a:ln>
        </p:spPr>
      </p:pic>
      <p:sp>
        <p:nvSpPr>
          <p:cNvPr id="360" name="TextBox 6"/>
          <p:cNvSpPr/>
          <p:nvPr/>
        </p:nvSpPr>
        <p:spPr>
          <a:xfrm>
            <a:off x="990720" y="609480"/>
            <a:ext cx="7391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Site for Conceptual Assessments in Biology: posting, use, and re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Box 3"/>
          <p:cNvSpPr/>
          <p:nvPr/>
        </p:nvSpPr>
        <p:spPr>
          <a:xfrm>
            <a:off x="6182640" y="5410080"/>
            <a:ext cx="1931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oin us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Handelsman </a:t>
            </a:r>
            <a:r>
              <a:rPr b="0" i="1" lang="en-US" sz="3000" spc="-1" strike="noStrike">
                <a:solidFill>
                  <a:srgbClr val="000000"/>
                </a:solidFill>
                <a:latin typeface="Gill Sans MT"/>
              </a:rPr>
              <a:t>et al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. Scientific Teaching. 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Gill Sans MT"/>
              </a:rPr>
              <a:t>Science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. 2004: 304 (5670): 521–522.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Teaching should be approached with the same rigor as science.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Assessment of teaching techniques in controlled experiments has shown active learning strategies to engage students in study of science improve performance of students.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371240" y="1828800"/>
            <a:ext cx="75438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660066"/>
                </a:solidFill>
                <a:latin typeface="Gill Sans MT"/>
              </a:rPr>
              <a:t>What is our primary goal </a:t>
            </a:r>
            <a:br>
              <a:rPr sz="4300"/>
            </a:br>
            <a:r>
              <a:rPr b="1" lang="en-US" sz="4300" spc="-1" strike="noStrike">
                <a:solidFill>
                  <a:srgbClr val="660066"/>
                </a:solidFill>
                <a:latin typeface="Gill Sans MT"/>
              </a:rPr>
              <a:t>as instructors?</a:t>
            </a:r>
            <a:endParaRPr b="0" lang="en-US" sz="4300" spc="-1" strike="noStrike">
              <a:solidFill>
                <a:srgbClr val="69666e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Gill Sans MT"/>
              </a:rPr>
              <a:t>A suitable educational goal is to have students thinking more like experts and approaching the mastery of the subject like an expert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Gill Sans MT"/>
              </a:rPr>
              <a:t>Thus, it is desirable to have test instruments that measure student thinking on a scale that distinguishes between novice and expert thinking.</a:t>
            </a:r>
            <a:r>
              <a:rPr b="0" i="1" lang="en-US" sz="3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Gill Sans MT"/>
              </a:rPr>
              <a:t> -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Adams and Wiema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ffc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371240" y="1828800"/>
            <a:ext cx="75438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660066"/>
                </a:solidFill>
                <a:latin typeface="Gill Sans MT"/>
              </a:rPr>
              <a:t>What is a </a:t>
            </a:r>
            <a:br>
              <a:rPr sz="4300"/>
            </a:br>
            <a:r>
              <a:rPr b="1" lang="en-US" sz="4300" spc="-1" strike="noStrike">
                <a:solidFill>
                  <a:srgbClr val="660066"/>
                </a:solidFill>
                <a:latin typeface="Gill Sans MT"/>
              </a:rPr>
              <a:t>concept inventory?</a:t>
            </a:r>
            <a:endParaRPr b="0" lang="en-US" sz="4300" spc="-1" strike="noStrike">
              <a:solidFill>
                <a:srgbClr val="69666e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Gill Sans MT"/>
              </a:rPr>
              <a:t>A concept inventory is an outline of core knowledge and concepts for a given field and a collection of multiple choice questions designed to probe student understanding of these fundamental concepts.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- Redish, 2000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ffc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371240" y="456840"/>
            <a:ext cx="74674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69666e"/>
                </a:solidFill>
                <a:latin typeface="Gill Sans MT"/>
              </a:rPr>
              <a:t>HOW DO CONCEPT INVENTORIES DIFFER FROM STUDENT ASSESSMENT?</a:t>
            </a:r>
            <a:endParaRPr b="0" lang="en-US" sz="3900" spc="-1" strike="noStrike">
              <a:solidFill>
                <a:srgbClr val="69666e"/>
              </a:solidFill>
              <a:latin typeface="Gill Sans MT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1371240" y="2514240"/>
            <a:ext cx="7497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ffc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I probe students’ conceptual understanding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ffc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I are based on research into student misconceptions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ffc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I distracters are chosen to reflect common student misconceptions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Gill Sans MT"/>
              </a:rPr>
              <a:t>The primary goal [of a concept inventory] is not to obtain a summative assessment of student learning; rather, it is to provide formative assessment of teaching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Gill Sans MT"/>
              </a:rPr>
              <a:t>-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Adams and Wiema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ffc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2T13:48:49Z</dcterms:created>
  <dc:creator/>
  <dc:description/>
  <dc:language>en-US</dc:language>
  <cp:lastModifiedBy>Robin Heyden</cp:lastModifiedBy>
  <dcterms:modified xsi:type="dcterms:W3CDTF">2011-03-12T21:24:53Z</dcterms:modified>
  <cp:revision>88</cp:revision>
  <dc:subject/>
  <dc:title>BIOLOGY CONCEPT INVENTORY (BCI)</dc:title>
</cp:coreProperties>
</file>